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5E8-DB37-4C8A-8E9E-F327D194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D07-00D2-473B-9051-19FC8753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D87-FC16-46DA-B64A-4F35F753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87D-25C3-4247-B0CD-9DB6DDD4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DABE-E386-4449-9C1D-0DD8CED6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E501-5D8E-44F0-85C5-CF41A9BC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E415-7B20-4EB4-9077-AE7EEFE0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1C8D-2535-454B-A30E-C095061E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ACC5-26E8-4048-BFB4-25AA7C52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555D-3B01-442A-9F76-3390B369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5BD6-E2E0-4CAF-8CBF-316F19E1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BCC-2363-44D7-8673-DF02C21B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C951-07B3-4EBC-999B-E3C6FC31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3A50-4E97-4898-9CEA-50BC519E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EAB7-1CE7-4788-A1AF-3707D7EB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5C78-0EE7-4332-B416-11C8C541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8A37-2B36-4A13-B6E9-816BEA1E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30F-CE62-44F2-940C-06CE0A22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D13-C5BF-4569-8F93-123529E8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897-8B5D-4787-BFA3-31FA5491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E1C-FCDC-46E9-958C-2C992E20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250-80C0-49C7-9735-1CC4BD66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C39-5983-4C67-AAF1-0E97B08E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39D-656A-43C5-B424-B7A54E28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B42F-A46D-4E4F-847F-5D9A21933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3875-AB26-4646-8163-C5BBDFE6083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RATIO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ORDER MATTERS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atio is a comparison between two numbers by divi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written in three different way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447920" y="35812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 to 2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8120" y="4343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 : 2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715000" y="5425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79132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867280" y="5318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al Rat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wo ratios name the same number, they are equal.  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like writing an equivalent fra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828800" y="350532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0 : 30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572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 Rat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5029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 : 15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124080" y="501336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 : 3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181480" y="49528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: 120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tios in Simplest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ios can be written in simplest fo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ide both terms in the ratio by their GC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4267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 12 to 8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29718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25909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o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2:27:04Z</dcterms:created>
  <dc:creator>Josh Hammond</dc:creator>
  <dc:description/>
  <dc:language>en-US</dc:language>
  <cp:lastModifiedBy>lucy.chambers</cp:lastModifiedBy>
  <dcterms:modified xsi:type="dcterms:W3CDTF">2010-12-07T14:23:59Z</dcterms:modified>
  <cp:revision>3</cp:revision>
  <dc:subject/>
  <dc:title>Ratios</dc:title>
</cp:coreProperties>
</file>